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3BC4-864E-48D8-AA80-F40441ACD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DFB-5054-4051-98BD-AB4EDF77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2AC5-B854-4A2C-A227-D7B183923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6A4-E76C-4E67-81C0-3B86443D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56B-89A0-49CB-AFF5-6D70A20C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7FB-D136-429F-B8AE-B6772CE3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017-7550-43E6-B481-D0D6DE18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BB8-CDA1-40D3-B9B2-DDD01F1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CEA-4EE9-46C6-8326-18AE54A1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BEE-D3E1-47EB-95C9-FC71991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DF9-4A7E-4E93-8518-583D018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B52-A170-443B-9AB4-34D09964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579-DCE1-46D9-96E4-72E81B8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9A7-EF33-40C7-89F7-BED19371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293-BEA7-4B76-B63C-6AA6991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BCAC-8B5C-4C13-9CFA-40602CE4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ws Scavenger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l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tine’s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g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nt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ezue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ind a news headline for each of the following words.  Skim the article and cut and paste the headline and the newspaper to a wor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293176[1]"/>
          <p:cNvPicPr/>
          <p:nvPr/>
        </p:nvPicPr>
        <p:blipFill>
          <a:blip r:embed="rId2"/>
          <a:stretch/>
        </p:blipFill>
        <p:spPr>
          <a:xfrm>
            <a:off x="6934320" y="457200"/>
            <a:ext cx="17589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d Morn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89400" y="1600200"/>
          <a:ext cx="2954520" cy="452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9400" y="1600200"/>
                    <a:ext cx="29545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1:20:57Z</dcterms:created>
  <dc:creator>Property of</dc:creator>
  <dc:description/>
  <dc:language>en-US</dc:language>
  <cp:lastModifiedBy>PA Department of Education Classrooms for the Future</cp:lastModifiedBy>
  <dcterms:modified xsi:type="dcterms:W3CDTF">2011-09-06T22:52:30Z</dcterms:modified>
  <cp:revision>15</cp:revision>
  <dc:subject/>
  <dc:title>Slide 1</dc:title>
</cp:coreProperties>
</file>